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7A4-9D58-4CC8-A86C-9F020217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456-94B8-4C09-BCC9-6B27E72E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4B7-90CF-434D-B778-880C4C72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FEE-A700-4D5B-82DE-7EE3DBC4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8B0-0EC4-457C-9B9B-DE78C8A7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993C-7D63-4F74-A5D7-CF63E14E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05D-5484-4EBD-AE86-17564683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A0E-847F-4F2F-BE0A-A56AB754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341-9E75-45AA-B04F-17AEA08A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5CC-D055-4F79-A2F8-79AFFF33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C21-A14D-4E94-8723-0CC3D0C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18C-CC7C-4B7F-9843-F585D5E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FB6-C7BE-438C-8580-164988DF7B2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8C33-D341-49AF-AB0C-F1990C3CEE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icture15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4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7:20:21Z</dcterms:created>
  <dc:creator>DEll</dc:creator>
  <dc:description/>
  <dc:language>en-US</dc:language>
  <cp:lastModifiedBy>tony</cp:lastModifiedBy>
  <dcterms:modified xsi:type="dcterms:W3CDTF">2019-06-25T07:58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