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260D-9CD4-41DF-8286-EE9F0902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3C7E-7B41-4C44-B4CD-0D7D2B04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028F-0DFB-4577-BC3C-434BD5A0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B581-5BAE-49DA-BF6F-1DFA6C2B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2AD9-4C26-424F-B709-C0532ECA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962-5B55-45DF-B55A-D5E92B67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29EA-C33C-4612-8AA5-608029CC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3907-0DB2-4D3F-9CE0-D846D0AC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1E79-AEC6-4963-964A-869CF78B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E9E8-E351-4811-B49F-5EF78516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5908-C383-4197-9E59-5BD662CB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0FC9-6D7C-45E5-B51B-85697338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B0A8C5-CF71-4E40-A002-E2AF52FD3C2F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08:48:12Z</dcterms:created>
  <dc:creator>Ing Ming Loh</dc:creator>
  <dc:description/>
  <dc:language>en-US</dc:language>
  <cp:lastModifiedBy>Ing Ming Loh</cp:lastModifiedBy>
  <dcterms:modified xsi:type="dcterms:W3CDTF">2018-10-12T08:48:35Z</dcterms:modified>
  <cp:revision>1</cp:revision>
  <dc:subject/>
  <dc:title>PowerPoint Presentation</dc:title>
</cp:coreProperties>
</file>