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4CB1-A66C-4E5A-83EA-5B230B99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94FE-9830-4916-9A7C-5D54B75E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AAC2-E24D-433C-87C9-4C3BE8370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7C7F-DCE3-4755-A55D-CBEAA10A2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2A39-7358-429C-B030-C1789770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CCB9-C72A-432C-9D02-A7D81F84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2667-572B-4652-A27B-CE00B1C2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9AD0-9212-437B-850C-FD60DEB0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3C9C-94EB-4CA5-8F97-8FCD4DF2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B852-D106-439E-8AA8-4160B391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A842-CA78-4D6D-9AC1-01634D94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0E83-1AC6-4E97-B7F5-6F9E707E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892DE6-BCC7-412B-84AE-45C53F1B0564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198360"/>
            <a:ext cx="914400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198360"/>
            <a:ext cx="914400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198360"/>
            <a:ext cx="914400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00:24:21Z</dcterms:created>
  <dc:creator>Ing Ming Loh</dc:creator>
  <dc:description/>
  <dc:language>en-US</dc:language>
  <cp:lastModifiedBy>Ing Ming Loh</cp:lastModifiedBy>
  <dcterms:modified xsi:type="dcterms:W3CDTF">2018-10-15T00:24:55Z</dcterms:modified>
  <cp:revision>1</cp:revision>
  <dc:subject/>
  <dc:title>PowerPoint Presentation</dc:title>
</cp:coreProperties>
</file>