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F3F-7439-4DD2-8350-3A9D3C4C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9F8-F51B-40FA-BEB9-46411E0E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467-2003-41A7-94E8-4ACCE99B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2AD-EEA5-4FD0-A034-7CA39202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05A-13F4-4627-9294-5BD1AFE3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EEE-061C-4160-9B25-BF367C90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66B-6365-4B8A-94B5-9FCE57A2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0E9D-FAF2-4F92-8821-AB6B39EB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691-632A-4428-94AA-1C1470AD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81B-486D-4020-9919-22E44F7B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F1C-F620-470C-B626-8EB99EAB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95AB-79CD-4A50-92D2-07B44EB4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74EE-FF06-46E4-82AC-7215BE6BB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z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z12"/>
          <p:cNvPicPr/>
          <p:nvPr/>
        </p:nvPicPr>
        <p:blipFill>
          <a:blip r:embed="rId3"/>
          <a:stretch/>
        </p:blipFill>
        <p:spPr>
          <a:xfrm>
            <a:off x="19080" y="0"/>
            <a:ext cx="912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z13"/>
          <p:cNvPicPr/>
          <p:nvPr/>
        </p:nvPicPr>
        <p:blipFill>
          <a:blip r:embed="rId1"/>
          <a:stretch/>
        </p:blipFill>
        <p:spPr>
          <a:xfrm>
            <a:off x="-9360" y="-36360"/>
            <a:ext cx="91533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7:24:34Z</dcterms:created>
  <dc:creator>DEll</dc:creator>
  <dc:description/>
  <dc:language>en-US</dc:language>
  <cp:lastModifiedBy>DEll</cp:lastModifiedBy>
  <dcterms:modified xsi:type="dcterms:W3CDTF">2011-05-26T07:51:49Z</dcterms:modified>
  <cp:revision>1</cp:revision>
  <dc:subject/>
  <dc:title>PowerPoint Presentation</dc:title>
</cp:coreProperties>
</file>