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BC4-393A-43E5-A702-1CD64D66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3AE-417F-42E5-8318-C233E409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CA3-2CCF-433E-B7FD-54AF86F4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6FB-02F4-40B1-BA74-79648835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98C-C571-48A2-A966-BDF64108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0FE-1245-4CCA-9295-3F2B4369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D18-800D-44DA-AF5B-29C570B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EFD-1BF3-446F-B9C4-379E41F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067-1D00-454C-B0EB-93715685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C9A-1F8C-4B92-84E6-7B751E7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880-DF41-47A6-B484-CB85201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F48-B70A-4F8B-AC91-EB5E800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621-41A1-4A41-83CA-A6FD6EC4B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z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8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z9"/>
          <p:cNvPicPr/>
          <p:nvPr/>
        </p:nvPicPr>
        <p:blipFill>
          <a:blip r:embed="rId1"/>
          <a:stretch/>
        </p:blipFill>
        <p:spPr>
          <a:xfrm>
            <a:off x="-15840" y="165240"/>
            <a:ext cx="915660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z10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z11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z12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25:33Z</dcterms:created>
  <dc:creator>DEll</dc:creator>
  <dc:description/>
  <dc:language>en-US</dc:language>
  <cp:lastModifiedBy>DEll</cp:lastModifiedBy>
  <dcterms:modified xsi:type="dcterms:W3CDTF">2011-05-26T07:51:33Z</dcterms:modified>
  <cp:revision>1</cp:revision>
  <dc:subject/>
  <dc:title>PowerPoint Presentation</dc:title>
</cp:coreProperties>
</file>