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5F7-7033-4BAE-B181-F02B4664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9D4-09CC-4ABA-8CF3-996F05CF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029-816C-46A8-B936-E6FF13D6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1FE-E889-4F23-BAAB-E93E9B57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6A1-F1CB-45B5-B4C0-3FC9FEBB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635-F5C5-4203-838A-58C4E7CF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513-6EA2-4F05-985B-0B894F45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859-A433-40DF-BD81-B76F7460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F8F-86A9-4625-8A05-7D664A83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328-20A7-4FD0-9BB5-AAF9B264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946-B6C7-4945-AC5E-787BC558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6FB8-7A85-4682-8A28-1CF2E2E8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1BC07-481F-4D35-9B0F-3341807A66F7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0:37:57Z</dcterms:created>
  <dc:creator>Ing Ming Loh</dc:creator>
  <dc:description/>
  <dc:language>en-US</dc:language>
  <cp:lastModifiedBy>Ing Ming Loh</cp:lastModifiedBy>
  <dcterms:modified xsi:type="dcterms:W3CDTF">2018-10-15T00:38:27Z</dcterms:modified>
  <cp:revision>1</cp:revision>
  <dc:subject/>
  <dc:title>PowerPoint Presentation</dc:title>
</cp:coreProperties>
</file>