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DEE-240C-41FF-8EA0-597F0260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EE9-1C10-438F-931D-18F1707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EE-39E1-4500-A925-18E976F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0F3-718B-44C4-9F4B-4DFDB57D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C51-389C-4001-93E5-63ED199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F6F-73D5-4F59-BDF9-C60F2927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4E6-9F15-43A4-8AB3-C773C2F3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FD3-AC32-408C-89D2-A25C74A8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294-20F6-4B75-9C06-692A9CE9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B22-D6FF-4573-A17E-5AC2C64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C88-5729-46D9-87D9-887011A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CFC-BDDC-421F-BF41-9240B6E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C96F-3CB9-4BB7-880A-85D7CE79B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b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15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14"/>
          <p:cNvPicPr/>
          <p:nvPr/>
        </p:nvPicPr>
        <p:blipFill>
          <a:blip r:embed="rId1"/>
          <a:stretch/>
        </p:blipFill>
        <p:spPr>
          <a:xfrm>
            <a:off x="-23760" y="3240"/>
            <a:ext cx="9167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15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27:31Z</dcterms:created>
  <dc:creator>DEll</dc:creator>
  <dc:description/>
  <dc:language>en-US</dc:language>
  <cp:lastModifiedBy>DEll</cp:lastModifiedBy>
  <dcterms:modified xsi:type="dcterms:W3CDTF">2011-05-26T07:51:23Z</dcterms:modified>
  <cp:revision>1</cp:revision>
  <dc:subject/>
  <dc:title>PowerPoint Presentation</dc:title>
</cp:coreProperties>
</file>