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19E-92C6-4112-88BB-99FF0475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4BC-801B-4A12-847F-7B8A5AC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9CB-51BE-4BB2-A0C8-E620CB28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D9E-1AC2-4C7B-A3C8-D7AB23BE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CD0-2976-4433-881E-558FDAAB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89D-7B63-4065-A8D8-D8DF1EEC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564-6ED6-4ED4-AE12-37FD9D5C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C01-49D8-4F22-9F7A-982418E4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F71-5BD7-4AE4-AD14-E7349773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5BF-EE6C-4F43-8CDC-24DFB8AF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BD9-596B-4584-A354-F79E40AF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B1E-8A65-4299-A835-9295253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1169-D342-4FFC-8156-D143AE6D2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0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0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08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10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30:12Z</dcterms:created>
  <dc:creator>DEll</dc:creator>
  <dc:description/>
  <dc:language>en-US</dc:language>
  <cp:lastModifiedBy>DEll</cp:lastModifiedBy>
  <dcterms:modified xsi:type="dcterms:W3CDTF">2011-05-26T07:50:53Z</dcterms:modified>
  <cp:revision>1</cp:revision>
  <dc:subject/>
  <dc:title>PowerPoint Presentation</dc:title>
</cp:coreProperties>
</file>