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93F-76FF-40D2-9E2B-9225D6D6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C6E-C4BF-449E-8261-262645A6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502-A263-43DD-BE34-30938CF1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994-C686-4FAE-A038-C36F56CF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64A-5630-44D2-A3B5-B66C5E2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F46-EEA1-4638-A541-CE2E481F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02E-FAC5-4A08-8E4B-AB1D1EA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57C-D317-437E-A7FF-6377B56B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603-1AF7-4708-9971-F2D5D8D4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449-2149-4260-AA76-BC4D0EC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809-327A-43B5-9981-23D3F70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576-AB58-4F36-87C6-46894F8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F02E-A726-47E6-83B6-65F33BE41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u1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2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u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u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6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33:04Z</dcterms:created>
  <dc:creator>DEll</dc:creator>
  <dc:description/>
  <dc:language>en-US</dc:language>
  <cp:lastModifiedBy>DEll</cp:lastModifiedBy>
  <dcterms:modified xsi:type="dcterms:W3CDTF">2011-05-26T07:50:07Z</dcterms:modified>
  <cp:revision>1</cp:revision>
  <dc:subject/>
  <dc:title>PowerPoint Presentation</dc:title>
</cp:coreProperties>
</file>