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994-DB7F-4597-8C64-D3FCEF72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119-DF7C-4EF3-B275-8259F13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7B8-DA8E-4369-8124-6EE94DAB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762-6B7C-4BD4-8419-7316790B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7F2-ABF7-4778-8DA6-F9B0E26F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7F9-2DC4-418E-AA92-0455F5A9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39B-4D88-4DDF-8573-67B4458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2DF-27B4-42CB-9BDE-2ECA742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21E-C009-439A-BED3-9F673800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7AF-E6C1-4AE1-9065-263655C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3A8-CF44-4A7B-95ED-74996E04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DD2-2028-4F02-99A1-DB8451A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2569-8278-48DC-9288-ECE5FF82C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s0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s05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s06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s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s09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35:53Z</dcterms:created>
  <dc:creator>DEll</dc:creator>
  <dc:description/>
  <dc:language>en-US</dc:language>
  <cp:lastModifiedBy>DEll</cp:lastModifiedBy>
  <dcterms:modified xsi:type="dcterms:W3CDTF">2011-05-26T07:49:57Z</dcterms:modified>
  <cp:revision>1</cp:revision>
  <dc:subject/>
  <dc:title>PowerPoint Presentation</dc:title>
</cp:coreProperties>
</file>