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FB9-48CE-4B42-9206-078DC461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B25-A6FC-4AC6-977F-A182E634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B21-84CA-4552-B0A6-EA6ABEB9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59D-B193-4CEE-B3A8-EF9C793E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19C-3BC3-424C-8867-26FA512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0EA-8F21-44C8-A479-2144C5CE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8F3-044A-4AA3-93CC-5B404DCF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152-19E4-48A3-9F97-FF4109B8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D91-69DF-4EBF-AA92-29042E56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014-0465-4A4F-8158-2E731B46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60F-4BFF-4D50-8A82-1421E56B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76E-53ED-41C3-9C9E-3D1FB1BA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379F0-D605-4DC8-8276-CE1D90E6A3C9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0:52:06Z</dcterms:created>
  <dc:creator>Ing Ming Loh</dc:creator>
  <dc:description/>
  <dc:language>en-US</dc:language>
  <cp:lastModifiedBy>Ing Ming Loh</cp:lastModifiedBy>
  <dcterms:modified xsi:type="dcterms:W3CDTF">2018-10-15T00:52:35Z</dcterms:modified>
  <cp:revision>1</cp:revision>
  <dc:subject/>
  <dc:title>PowerPoint Presentation</dc:title>
</cp:coreProperties>
</file>