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5601-9CC4-4E20-B2A3-C412FB93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07FA-DFFC-4DD9-B12E-2F465DDB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AFC8-D849-451A-A50C-CB405678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4DD9-9339-44D8-8E9E-CCB67336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F2CE-30E7-4AAD-A5F7-A9821EEB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0057-D796-4B26-9D8E-CC205D56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8694-8CF8-4059-B92D-F6C405E5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B141-936E-4B7F-B94A-8D49F8DF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A3D8-684D-4268-A618-4CB846A7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1285-0592-4378-8073-14C9AC43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C744-E062-4E17-9AB1-F871550B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1495-BBE4-4C14-A774-A4B9066F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98C5-9C4B-449F-853E-2E72995DA7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s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s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s29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s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s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07:39:40Z</dcterms:created>
  <dc:creator>DEll</dc:creator>
  <dc:description/>
  <dc:language>en-US</dc:language>
  <cp:lastModifiedBy>DEll</cp:lastModifiedBy>
  <dcterms:modified xsi:type="dcterms:W3CDTF">2011-05-26T07:49:43Z</dcterms:modified>
  <cp:revision>1</cp:revision>
  <dc:subject/>
  <dc:title>PowerPoint Presentation</dc:title>
</cp:coreProperties>
</file>