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F54-7080-4366-A91C-6149A542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71B-403E-48F2-ADC9-19D19CA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543-1372-4206-9C67-FEE2D95B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550-3696-4C54-A1EE-DF1276B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C1C-6463-42F7-9FD6-A9F504F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59E-7D39-44B7-9823-EDE4462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811-E30A-4A46-ABE3-A84CF063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9B1-C41D-4CCC-A6C5-593C8813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720-8158-473A-9410-0EA886B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655-82FF-4C67-9B30-8459947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353-B2BB-4F5C-9721-12D58CE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C6B-77BC-4C65-BC3C-F86DE02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0473-5C0F-40EA-B973-10507C93C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普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8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43200" y="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黑体"/>
                <a:ea typeface="黑体"/>
              </a:rPr>
              <a:t>紧靠上主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90720" y="762120"/>
            <a:ext cx="617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5 – 3 | 1 - 4 | 3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90720" y="1371600"/>
            <a:ext cx="6095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但愿紧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靠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上 主 身 旁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90720" y="4433760"/>
            <a:ext cx="624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此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乃照 路 真 理 之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光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90720" y="2209680"/>
            <a:ext cx="57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| 3 – 2 | 2 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990720" y="2909880"/>
            <a:ext cx="403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神性镇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静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温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良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90720" y="594360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引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 就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 羔 羊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990720" y="3900600"/>
            <a:ext cx="57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 5  4 | 3 – 1 | 3 - 2 | 1-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990720" y="5348160"/>
            <a:ext cx="533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3 - 3 | 4 – 7 | 1 - - |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193760" y="2654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600200" y="26668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987720" y="5805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90720" y="228600"/>
            <a:ext cx="617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5 – 3 | 1 - 4 | 3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838080"/>
            <a:ext cx="6095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圣洁之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鸽 平 安 之 使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90720" y="4267080"/>
            <a:ext cx="624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恨罪 恶 使 主 忧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伤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90720" y="1905120"/>
            <a:ext cx="57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| 3 – 2 | 2 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990720" y="2604960"/>
            <a:ext cx="403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恳求千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万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归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来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90720" y="594360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 与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 分 开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990720" y="3733920"/>
            <a:ext cx="57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 5  4 | 3 – 1 | 3 - 2 | 1-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990720" y="5348160"/>
            <a:ext cx="533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3 - 3 | 4 – 7 | 1 - - |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1937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00200" y="2362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87720" y="5805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228600"/>
            <a:ext cx="617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5 – 3 | 1 - 4 | 3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838080"/>
            <a:ext cx="6095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凡我所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有 心 爱 偶 像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90720" y="4267080"/>
            <a:ext cx="624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助 我 拆 毁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消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除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90720" y="1905120"/>
            <a:ext cx="57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| 3 – 2 | 2 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90720" y="2604960"/>
            <a:ext cx="403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无论是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何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形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状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90720" y="594360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 惟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 是 向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990720" y="3733920"/>
            <a:ext cx="57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 5  4 | 3 – 1 | 3 - 2 | 1-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90720" y="5348160"/>
            <a:ext cx="533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3 - 3 | 4 – 7 | 1 - - |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1937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600200" y="2362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987720" y="5805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228600"/>
            <a:ext cx="617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5 – 3 | 1 - 4 | 3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838080"/>
            <a:ext cx="6095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因此我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能 靠 主 身 旁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90720" y="4267080"/>
            <a:ext cx="624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此纯 洁 真 理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光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90720" y="1905120"/>
            <a:ext cx="57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| 3 – 2 | 2 - - 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990720" y="2604960"/>
            <a:ext cx="403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心鎭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静 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温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良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90720" y="594360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引</a:t>
            </a:r>
            <a:r>
              <a:rPr b="0" lang="zh-TW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 就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 羔 羊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90720" y="3733920"/>
            <a:ext cx="57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 5  4 | 3 – 1 | 3 - 2 | 1-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990720" y="5348160"/>
            <a:ext cx="533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3 - 3 | 4 – 7 | 1 - - |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193760" y="2349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600200" y="2362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987720" y="5805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8:14:12Z</dcterms:created>
  <dc:creator>Emachines</dc:creator>
  <dc:description/>
  <dc:language>en-US</dc:language>
  <cp:lastModifiedBy>tony</cp:lastModifiedBy>
  <dcterms:modified xsi:type="dcterms:W3CDTF">2019-06-25T08:04:13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