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851-54BD-4161-9E3C-281C36F8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0C9-225C-474B-B872-D0292D0F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FAE-638C-40AA-AA04-DD7DCED4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3BA-BBBF-444E-B34F-8918E591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F66C-72E0-48F4-8D59-559D01B7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37B-B1E7-43B4-8BB2-C2F90CA4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E89-79E5-4A1C-8790-6171645A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CA4-DBFB-4BED-AA2D-489DB600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FA4-043E-4533-8BED-F305DA5A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39D-5E64-4402-A324-2B4004FE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B46-C011-439C-BDF5-25884C2E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B5B-7C66-4C7E-B5DF-B697430B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960C4-D515-462C-AD80-DA202D7AEC17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1:02:36Z</dcterms:created>
  <dc:creator>Ing Ming Loh</dc:creator>
  <dc:description/>
  <dc:language>en-US</dc:language>
  <cp:lastModifiedBy>Ing Ming Loh</cp:lastModifiedBy>
  <dcterms:modified xsi:type="dcterms:W3CDTF">2018-10-15T01:03:06Z</dcterms:modified>
  <cp:revision>1</cp:revision>
  <dc:subject/>
  <dc:title>PowerPoint Presentation</dc:title>
</cp:coreProperties>
</file>