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FDA7-67C1-4085-9E82-65C1B8AC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0AB7-585F-4697-BCBB-9B67315A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57AE-4BCC-4089-9C98-7C4E61C8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D4D3-4D0A-4A92-B63E-F5B4FE25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9D53-C392-428E-BD09-598A1A9D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B4FA-B0A1-42ED-A254-874EF2D3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36C4-5794-4111-90E4-4026BDA5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A1BD-E559-4F27-A0DB-0591C27E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5A6-4F73-47DD-B8A5-FA3E0FED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A05C-F10D-40C3-AA16-7F469C93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58D6-377D-48FF-B87B-24CC6B92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384-05C4-47C9-89CF-CD19A9F3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617E0A-1964-48AF-A77B-DC9FDE733C0D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1:04:54Z</dcterms:created>
  <dc:creator>Ing Ming Loh</dc:creator>
  <dc:description/>
  <dc:language>en-US</dc:language>
  <cp:lastModifiedBy>Ing Ming Loh</cp:lastModifiedBy>
  <dcterms:modified xsi:type="dcterms:W3CDTF">2018-10-15T01:05:34Z</dcterms:modified>
  <cp:revision>1</cp:revision>
  <dc:subject/>
  <dc:title>PowerPoint Presentation</dc:title>
</cp:coreProperties>
</file>