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4B19-FA1A-433D-9920-A87BEAE30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BF5A-B746-4BCE-8FF0-5CE6861C5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6816-A5F2-4C74-AFD4-A1A93EE1B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FA4C-27E0-4552-98A6-5B15D023C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E834-3372-4C96-97E5-E1C51D288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3946-E52A-4072-9A6D-0D71DCED0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F2D2-8955-43C3-98C8-A1223562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91FC-3353-44EC-8632-7980F5CDA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B0F7-3FEA-46E2-96C7-A389EAA52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3215-7428-4C47-91D9-1AAD3523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C624-EDC0-41A1-92F2-EB4F1248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DBCB-CF43-495A-850E-814DC6AD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C122D-5A56-403A-86BD-5D23166837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b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b2"/>
          <p:cNvPicPr/>
          <p:nvPr/>
        </p:nvPicPr>
        <p:blipFill>
          <a:blip r:embed="rId1"/>
          <a:stretch/>
        </p:blipFill>
        <p:spPr>
          <a:xfrm>
            <a:off x="0" y="23760"/>
            <a:ext cx="9144000" cy="68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b3"/>
          <p:cNvPicPr/>
          <p:nvPr/>
        </p:nvPicPr>
        <p:blipFill>
          <a:blip r:embed="rId1"/>
          <a:stretch/>
        </p:blipFill>
        <p:spPr>
          <a:xfrm>
            <a:off x="0" y="-12600"/>
            <a:ext cx="915048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b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b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07:43:02Z</dcterms:created>
  <dc:creator>DEll</dc:creator>
  <dc:description/>
  <dc:language>en-US</dc:language>
  <cp:lastModifiedBy>DEll</cp:lastModifiedBy>
  <dcterms:modified xsi:type="dcterms:W3CDTF">2011-05-26T07:49:26Z</dcterms:modified>
  <cp:revision>1</cp:revision>
  <dc:subject/>
  <dc:title>PowerPoint Presentation</dc:title>
</cp:coreProperties>
</file>