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8BC-A56D-4785-B269-825ED59A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16B-AD81-4FD3-AA3B-4E2CEBA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FF9-CFE5-4A6D-A848-84992717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E7B-5843-4A58-834A-F706D477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B46-CEB3-4BBE-918A-8B488C75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58D-7149-40D7-A30A-7E914613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6A9-9D2A-4560-B491-8677D530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1E8-D8E9-4461-9AD9-9577E57A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6C8-BC35-4F95-8F50-06C070E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059-C763-4358-AD7A-22532BE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62E-D5F4-4228-B0B5-756A0A2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145-BAC2-41BF-BFB5-52D903A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DF8-C677-4345-975C-84F6143D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50:54Z</dcterms:created>
  <dc:creator>DEll</dc:creator>
  <dc:description/>
  <dc:language>en-US</dc:language>
  <cp:lastModifiedBy>DEll</cp:lastModifiedBy>
  <dcterms:modified xsi:type="dcterms:W3CDTF">2011-05-26T07:49:12Z</dcterms:modified>
  <cp:revision>1</cp:revision>
  <dc:subject/>
  <dc:title>PowerPoint Presentation</dc:title>
</cp:coreProperties>
</file>