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39D-A49F-4D66-AE6B-874F9B3E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30B-C188-4840-9039-505E4859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620-C480-4117-B465-02C801E9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218-BE66-4F32-917D-D71AF388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FD3-7805-4A88-A91A-24DFBAF9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1A2-ECC1-415F-A793-BB3A3A63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3A1-F35E-49D8-AA2C-44918A69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D22-5C40-42EF-88EA-D977D6C8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A7A-E040-4BDC-BF40-D2034F91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C06-E7F8-4716-949D-000DE1D9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D88-08C8-4CA7-9D36-F9D56C3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348-CA87-4023-AB20-5EB1727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A13C-9A3B-4F3A-83E6-AB3D5B5C4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20"/>
          <p:cNvPicPr/>
          <p:nvPr/>
        </p:nvPicPr>
        <p:blipFill>
          <a:blip r:embed="rId1"/>
          <a:stretch/>
        </p:blipFill>
        <p:spPr>
          <a:xfrm>
            <a:off x="-19080" y="-15840"/>
            <a:ext cx="91630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51:59Z</dcterms:created>
  <dc:creator>DEll</dc:creator>
  <dc:description/>
  <dc:language>en-US</dc:language>
  <cp:lastModifiedBy>DEll</cp:lastModifiedBy>
  <dcterms:modified xsi:type="dcterms:W3CDTF">2011-05-26T07:48:53Z</dcterms:modified>
  <cp:revision>1</cp:revision>
  <dc:subject/>
  <dc:title>PowerPoint Presentation</dc:title>
</cp:coreProperties>
</file>