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C23-50CF-48D5-B72B-27A0632C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95D-2BF4-45E4-813A-4CDC2358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96E-49A5-49CB-B177-F4B6B19A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320-BEFA-4749-B2DE-7CD42BE6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8E7-7AC7-42BA-86FE-480F66C1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9BA-F98D-4628-9024-45989DB7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A44-EF18-4313-ACF6-19F2856A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77C-6E5F-4452-A041-CE325AF5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D23-3AC2-4276-A183-D029241D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466-1BDD-4A4D-8693-FC8ACEB9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FD0B-45B1-4465-931B-412C0E31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AB7-3DE9-4B2E-9A6D-54B9734D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B7A3-1DD4-4A28-80CE-EA22B4E3A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s03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04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05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s06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53:04Z</dcterms:created>
  <dc:creator>DEll</dc:creator>
  <dc:description/>
  <dc:language>en-US</dc:language>
  <cp:lastModifiedBy>DEll</cp:lastModifiedBy>
  <dcterms:modified xsi:type="dcterms:W3CDTF">2011-05-26T07:48:43Z</dcterms:modified>
  <cp:revision>1</cp:revision>
  <dc:subject/>
  <dc:title>PowerPoint Presentation</dc:title>
</cp:coreProperties>
</file>