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95D-7E04-4F99-BF9F-62CBDDA8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ED1-A78F-446F-B43C-B83762A2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E44-841F-4DD3-9688-E003B244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D0F-1B1C-4E5F-84BD-1DEDC38E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FE5-04C7-4943-982E-259149CC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593-3B03-44A7-94D1-5A58A0FF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AF9-EC0F-4F34-9D86-96EB5193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52B-43B3-4433-B39D-77C0EDCA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D3F-9ABE-4062-BDA5-F1F379CB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68E-1D64-4995-8EE2-C26F4146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8B0-FCE9-495E-90C8-3E59083B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FBB-FC3B-47FF-A420-A154E810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00E7-4C10-4734-896C-B22B4922D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b9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10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11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b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b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54:17Z</dcterms:created>
  <dc:creator>DEll</dc:creator>
  <dc:description/>
  <dc:language>en-US</dc:language>
  <cp:lastModifiedBy>DEll</cp:lastModifiedBy>
  <dcterms:modified xsi:type="dcterms:W3CDTF">2011-05-26T07:48:31Z</dcterms:modified>
  <cp:revision>1</cp:revision>
  <dc:subject/>
  <dc:title>PowerPoint Presentation</dc:title>
</cp:coreProperties>
</file>