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F70-493B-4170-9A24-DA9B74EC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594-6519-4BBA-BFB6-39C83AE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492-0D35-4A86-B92E-0A2DBF26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262-F378-4704-A3A9-5F93158F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4E3-F0A3-4CF6-A1E1-DBB9C3E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C19-ED3C-43A7-A0E1-20A641C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08-EE0C-43E9-94C9-0747AE3C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3F6-31BF-4D28-8A12-B1991C0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C2E-BB42-43CB-B9C9-F662446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010-440B-4B5F-ABE7-4ED7144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A8D-1A58-4BB1-99F8-137B799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13F-1FE3-4CA4-A83E-2802B1D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A3C24-8AAE-4980-9C0C-11A87EF1B60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1:27:32Z</dcterms:created>
  <dc:creator>Ing Ming Loh</dc:creator>
  <dc:description/>
  <dc:language>en-US</dc:language>
  <cp:lastModifiedBy>Ing Ming Loh</cp:lastModifiedBy>
  <dcterms:modified xsi:type="dcterms:W3CDTF">2018-10-15T01:28:12Z</dcterms:modified>
  <cp:revision>1</cp:revision>
  <dc:subject/>
  <dc:title>PowerPoint Presentation</dc:title>
</cp:coreProperties>
</file>