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FA5-9648-4E57-B39D-715FF98C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7FA-2313-41F7-A205-54A8950B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4C0-4FDA-4203-8889-FC335F4B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FBF-315F-45B8-9577-9BA7D572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E19-7C18-42EE-987F-79436A09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70D-E8F3-48E3-B4FC-F01FED23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0A8-537C-4116-AF67-BF3DB4A7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5F1-3F48-4E19-BC00-BDAEEE96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5FB-D355-4037-8558-F06F43A2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704-C239-4E61-986C-63D89033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E74-E74F-4349-9FFD-30E3BA5A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CA8-2020-4A84-8DAA-9F46C846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0939F-39B8-4464-B983-47BAD1C8EA4B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1:30:53Z</dcterms:created>
  <dc:creator>Ing Ming Loh</dc:creator>
  <dc:description/>
  <dc:language>en-US</dc:language>
  <cp:lastModifiedBy>Ing Ming Loh</cp:lastModifiedBy>
  <dcterms:modified xsi:type="dcterms:W3CDTF">2018-10-15T01:31:27Z</dcterms:modified>
  <cp:revision>1</cp:revision>
  <dc:subject/>
  <dc:title>PowerPoint Presentation</dc:title>
</cp:coreProperties>
</file>