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8F6-EBE7-4A3F-A675-97172D3C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1FB-D495-49C1-A25C-D3C74071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523-EFE1-4A5D-B1BA-714F6320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474-FC12-46CD-B6CB-9394949C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988-5686-45B6-8CB7-B537A554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9C9-3C72-4BAE-AFA9-121442C1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020-63A3-4B78-9C2F-054622D9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038-FB94-44CA-A5D3-3FE56F63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2CF-CD13-435B-B3FF-660E2AF6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368-97E8-41EB-AC82-3448F99B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50C-B4CC-4ACF-BBDC-3EA89BDC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6A7-400D-4CC0-96F8-8172A7F4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885E0-F717-45E3-BF8E-5E093EA2A533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icture16"/>
          <p:cNvPicPr/>
          <p:nvPr/>
        </p:nvPicPr>
        <p:blipFill>
          <a:blip r:embed="rId1"/>
          <a:stretch/>
        </p:blipFill>
        <p:spPr>
          <a:xfrm>
            <a:off x="3240" y="-6480"/>
            <a:ext cx="91202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1:34:36Z</dcterms:created>
  <dc:creator>Ing Ming Loh</dc:creator>
  <dc:description/>
  <dc:language>en-US</dc:language>
  <cp:lastModifiedBy>tony</cp:lastModifiedBy>
  <dcterms:modified xsi:type="dcterms:W3CDTF">2019-06-25T08:13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