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520-E42F-4468-A76C-2F32512D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3E2-10FC-4E53-AFEA-7411584C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EDA-6F73-469B-81FB-ADF6B5E8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384-1524-412E-996C-49F62FE8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5CB-C3FF-4D0A-BED2-1DC4AD99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EB4-952F-4F0D-AD30-FA234E59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972-A65F-4C85-9CFF-0233491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479-1215-456C-9F81-6E6C4209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AB4-1AFE-445D-80BE-BBC7850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EA0-FC2B-40AE-8CB0-F5DD02D0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154-991A-48CA-BE6C-17EB847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74D-3646-47A9-B394-EAC6CEA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580-9BE3-497A-945A-50145A73A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a4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5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4"/>
          <p:cNvPicPr/>
          <p:nvPr/>
        </p:nvPicPr>
        <p:blipFill>
          <a:blip r:embed="rId1"/>
          <a:stretch/>
        </p:blipFill>
        <p:spPr>
          <a:xfrm>
            <a:off x="-12600" y="-6480"/>
            <a:ext cx="9156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55:54Z</dcterms:created>
  <dc:creator>DEll</dc:creator>
  <dc:description/>
  <dc:language>en-US</dc:language>
  <cp:lastModifiedBy>DEll</cp:lastModifiedBy>
  <dcterms:modified xsi:type="dcterms:W3CDTF">2011-05-26T07:48:13Z</dcterms:modified>
  <cp:revision>1</cp:revision>
  <dc:subject/>
  <dc:title>PowerPoint Presentation</dc:title>
</cp:coreProperties>
</file>