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2C4-3CC6-4ED7-82B4-99151C0D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480-9F67-4F05-AEA9-47926A1A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A784-993D-47BA-8A4D-A215D623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DBB-56E8-4835-8548-05099B59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4ACE-943B-49A9-8E75-A8D16D6F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AE4-EA5B-4C9E-B1AE-0F75CC5F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1B72-0BBA-4F1B-9DB7-A4CEA31D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C7F-21EA-40A6-9180-4B22D964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937-18FE-4CBD-9DC3-80320FE7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2631-52CE-4FDD-B876-76B02E6F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F0F0-3ED8-4F66-BCF3-23E02FF2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2690-399C-43D1-AA3F-DB0F9E90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1BC3D-BA6D-476D-83AE-B49D78E85257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1:48:30Z</dcterms:created>
  <dc:creator>Ing Ming Loh</dc:creator>
  <dc:description/>
  <dc:language>en-US</dc:language>
  <cp:lastModifiedBy>Ing Ming Loh</cp:lastModifiedBy>
  <dcterms:modified xsi:type="dcterms:W3CDTF">2018-10-15T01:49:12Z</dcterms:modified>
  <cp:revision>1</cp:revision>
  <dc:subject/>
  <dc:title>PowerPoint Presentation</dc:title>
</cp:coreProperties>
</file>