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05D-2C2C-4493-BC65-32CD84C4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905-36BB-4E5E-932C-7708384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0AE-6ED8-4E9D-BBD4-D486AE3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0E8-B74B-4816-84D0-C6EF676A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435-0F4A-42D8-B869-27C45E3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F8B-D53D-4E54-9ABA-45693A33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4E5-DB17-4D88-80EC-6C623FE1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9DF-16C3-4A5B-B319-0084C9F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F52-E3F6-40A1-A9FA-54F46F09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D4D-432D-4898-8B7C-10C984F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CD0-D438-4B76-9151-8900EFAD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276-313A-4C7C-8D97-AD82931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EEC2B-04B7-4057-AE78-57FFBE7655D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07:50Z</dcterms:created>
  <dc:creator>Ing Ming Loh</dc:creator>
  <dc:description/>
  <dc:language>en-US</dc:language>
  <cp:lastModifiedBy>Ing Ming Loh</cp:lastModifiedBy>
  <dcterms:modified xsi:type="dcterms:W3CDTF">2018-10-15T02:08:32Z</dcterms:modified>
  <cp:revision>1</cp:revision>
  <dc:subject/>
  <dc:title>PowerPoint Presentation</dc:title>
</cp:coreProperties>
</file>