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FCD-04EC-4F1F-A17E-9BE3F0F7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08E-8A8C-4B99-B69D-096AD202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521-941F-4140-A1BB-C13D534A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58E-7776-4209-B7FD-96BC682A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9F7-3116-45E6-AA2F-052DE409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434-B628-4DB9-9695-F6A10680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67A-233D-487F-BCD6-C64075B4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B28-2A3B-4CDD-98B6-31B4C76A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769-9721-4FEF-B7B8-2749FE60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811-A303-4049-A7E2-4771E660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8B3-86DF-40CA-9299-B6D9C9E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A4D-4BE5-479F-BE0E-6BFE3B3C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0D90A-1802-44FF-BA74-42B5512A7027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13:22Z</dcterms:created>
  <dc:creator>Ing Ming Loh</dc:creator>
  <dc:description/>
  <dc:language>en-US</dc:language>
  <cp:lastModifiedBy>Ing Ming Loh</cp:lastModifiedBy>
  <dcterms:modified xsi:type="dcterms:W3CDTF">2018-10-15T02:13:57Z</dcterms:modified>
  <cp:revision>1</cp:revision>
  <dc:subject/>
  <dc:title>PowerPoint Presentation</dc:title>
</cp:coreProperties>
</file>