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F9B-6F11-4956-B831-F5C5875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028-C63F-4A99-A1AF-5D725A8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7A4-2D1A-4232-BF05-CC5C8839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65E-91B3-4D68-9A05-19A5E72A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BCA-A6FB-464D-AFD7-CED90BC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F98-A7C6-4AD2-8FF2-D022CC9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E6B-BD48-406E-9BCD-F60ACFF7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030-18C5-41A4-A069-E78EEC74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733-B2DE-465A-9E1A-37988B0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C49-DDBE-4682-9B13-A04EB48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965-59B9-43DB-9A8E-7E66A0E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626-D70D-4597-BA9B-258B341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16A3-4FE8-4D18-9266-57F414915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4"/>
          <p:cNvPicPr/>
          <p:nvPr/>
        </p:nvPicPr>
        <p:blipFill>
          <a:blip r:embed="rId1"/>
          <a:stretch/>
        </p:blipFill>
        <p:spPr>
          <a:xfrm>
            <a:off x="20520" y="-23760"/>
            <a:ext cx="91234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5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7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8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17:57Z</dcterms:created>
  <dc:creator>DEll</dc:creator>
  <dc:description/>
  <dc:language>en-US</dc:language>
  <cp:lastModifiedBy>DEll</cp:lastModifiedBy>
  <dcterms:modified xsi:type="dcterms:W3CDTF">2011-05-26T07:47:29Z</dcterms:modified>
  <cp:revision>1</cp:revision>
  <dc:subject/>
  <dc:title>PowerPoint Presentation</dc:title>
</cp:coreProperties>
</file>