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5CA6C-B50A-41AF-9785-4EBF90DA0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1A985-FD90-4AD9-86A4-BF7AEE218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AE78E-3EFC-439B-B3CE-587A6CB68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3189C-8B8A-482C-BA37-9F6C49E5A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2BD10-0AD0-4992-AACA-B8D8022F6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E4E6B-2417-4777-B6A2-3197E9A7C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41570-973A-4BB7-A4EF-FC8D13ADA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279C1-81DD-4077-8B5B-E08A8E69F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6912B-63C3-4255-A171-A08D24E15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2B715-DCFD-44E4-ABD2-780F007F1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4701D-F446-4BEC-BA55-1150EE785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EF004-2AAA-44B3-815B-41FF313C6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MY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MY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MY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D7D742-51B0-4CDB-9BCA-7B41F9D2AD14}" type="slidenum">
              <a:rPr b="0" lang="en-MY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0-15T02:17:39Z</dcterms:created>
  <dc:creator>Ing Ming Loh</dc:creator>
  <dc:description/>
  <dc:language>en-US</dc:language>
  <cp:lastModifiedBy>Ing Ming Loh</cp:lastModifiedBy>
  <dcterms:modified xsi:type="dcterms:W3CDTF">2018-10-15T02:18:06Z</dcterms:modified>
  <cp:revision>1</cp:revision>
  <dc:subject/>
  <dc:title>PowerPoint Presentation</dc:title>
</cp:coreProperties>
</file>