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2BE-FD2F-43F4-837E-AE9179CD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FF6-E6A4-49B5-A1D3-3975CD4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941-AC27-4CD6-8E0C-6DE74C61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7E0-BFBB-4EF7-A5B1-64974BDB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03A-481C-4E23-80DA-5554599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42A-0446-48B2-BBCF-22593D55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A29-0919-43E1-953F-46A13134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E1A-1831-43B4-8640-A27DB724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A27-F0EB-400C-8BB9-E4A358A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9D6-50C8-478D-BBC6-7866C09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2B2-043D-4749-B94A-A32F929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A26-391C-486C-96FE-D7C75968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1A83-37C9-42D5-8919-BB6CE9071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30T07:34:07Z</dcterms:created>
  <dc:creator>IT-Alienware</dc:creator>
  <dc:description/>
  <dc:language>en-US</dc:language>
  <cp:lastModifiedBy>Microsoft account</cp:lastModifiedBy>
  <dcterms:modified xsi:type="dcterms:W3CDTF">2024-03-08T02:26:47Z</dcterms:modified>
  <cp:revision>2</cp:revision>
  <dc:subject/>
  <dc:title>PowerPoint Presentation</dc:title>
</cp:coreProperties>
</file>