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81509-428D-4D89-9464-862E68A41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D7085-7120-428F-9113-C7C1687EA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CAADD-51AB-45CD-91CA-52071ABDE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BF006-76C1-4432-B1FA-FA08CF37E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47CCA-D4CA-4033-BD60-634449934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F6335-150B-4AC2-A9CB-0F9054A8D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975EA-9F99-44AB-A2C0-A74B91409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87DEB-FF84-443D-BC8A-D3F08F4C5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FF600-1194-4D98-8E79-ECE5ACC51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52AD5-7984-4ECD-A2EB-8EE1A6233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4654A-38D0-44CB-87D3-475E83ECA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6E9E5-971F-4C78-85E5-E9D9A13C8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71703-395C-4E96-A265-AF9DC5A05B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2" descr="s4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s5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0" y="-23760"/>
            <a:ext cx="9144000" cy="68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s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s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5T08:20:35Z</dcterms:created>
  <dc:creator>DEll</dc:creator>
  <dc:description/>
  <dc:language>en-US</dc:language>
  <cp:lastModifiedBy>DEll</cp:lastModifiedBy>
  <dcterms:modified xsi:type="dcterms:W3CDTF">2011-05-26T07:46:09Z</dcterms:modified>
  <cp:revision>1</cp:revision>
  <dc:subject/>
  <dc:title>PowerPoint Presentation</dc:title>
</cp:coreProperties>
</file>