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FD1-44D8-43A2-899F-CF9B9348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0D5-1A51-4DFE-94B9-6366FBB9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19B-97CE-47DA-829F-2DEC9981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3C3-56F9-4A3D-A5EB-4D4094A8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4BC-3359-4C60-AA05-B13685EF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F31F-6EC8-408F-8F8D-FE5F7384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B62-F076-45BE-A25F-CDE4F49D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628-B9D9-4EE7-874C-C40578DE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F71-8429-48BA-8757-94B31FFF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5FFE-998B-42CD-8B90-3A46BE52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247C-1756-4793-9416-DEA590F4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E9B-6B06-4EDD-9457-D1CF1295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D60C-A367-419B-8EA8-DCF93E105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x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x5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x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x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8:21:57Z</dcterms:created>
  <dc:creator>DEll</dc:creator>
  <dc:description/>
  <dc:language>en-US</dc:language>
  <cp:lastModifiedBy>DEll</cp:lastModifiedBy>
  <dcterms:modified xsi:type="dcterms:W3CDTF">2011-05-26T07:45:56Z</dcterms:modified>
  <cp:revision>1</cp:revision>
  <dc:subject/>
  <dc:title>PowerPoint Presentation</dc:title>
</cp:coreProperties>
</file>