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4DB-9262-4B82-8DAE-87AF0311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691-0F24-4CF5-9716-57376B0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1FA-6AC6-42E0-8793-7ABB6900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6F8-012B-4D72-9773-CC101B41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760-B772-4C57-A017-F3314E31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B8F-915F-4AF4-9B93-8333CFDE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147-C79E-4C32-8E29-7AED921B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028-5685-4A47-9B79-5C4A95D3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7E9-5F00-413F-B9A0-FC45E0DC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0F2-B4D0-4B7F-9FFB-5244D4E1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30D-10EB-494C-8A67-3ABC00DA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368-55BE-4F5E-8112-58FDE01D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7CD02-930B-42F0-8B9C-4DDDE7F597F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33:09Z</dcterms:created>
  <dc:creator>Ing Ming Loh</dc:creator>
  <dc:description/>
  <dc:language>en-US</dc:language>
  <cp:lastModifiedBy>Ing Ming Loh</cp:lastModifiedBy>
  <dcterms:modified xsi:type="dcterms:W3CDTF">2018-10-15T02:33:44Z</dcterms:modified>
  <cp:revision>1</cp:revision>
  <dc:subject/>
  <dc:title>PowerPoint Presentation</dc:title>
</cp:coreProperties>
</file>