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37198-DD82-478A-B552-AB679BBBF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00312-8CEC-476C-BFF4-4F80E0BAD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E513-41D1-4891-9A33-20F17299F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14E2-D957-43E1-8F3D-14F7364D8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22B3-96DF-41DA-B437-FC554AD4B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31904-769C-4DCD-801D-0A1F76040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E901-5BD6-4CB3-AE9D-0943095A6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95E7-A52E-4F85-B3C5-5A67A54CF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CD9-E0B9-45F5-913D-02320F576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CD56-543F-4F24-90BA-FCBBB6AB7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2FA9-F81F-4181-9AD1-568E3C859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CD57C-C25D-41F6-8005-A8C609C7E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F18658D-9EFD-4D5D-B862-DE50971041E9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2:36:40Z</dcterms:created>
  <dc:creator>Ing Ming Loh</dc:creator>
  <dc:description/>
  <dc:language>en-US</dc:language>
  <cp:lastModifiedBy>Ing Ming Loh</cp:lastModifiedBy>
  <dcterms:modified xsi:type="dcterms:W3CDTF">2018-10-15T02:37:16Z</dcterms:modified>
  <cp:revision>1</cp:revision>
  <dc:subject/>
  <dc:title>PowerPoint Presentation</dc:title>
</cp:coreProperties>
</file>