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00D-A8A0-4C80-9784-8C50D88B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EDE-D3BC-4584-8FF0-3D889883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3FA-96E3-45D2-88DB-50DBA6D2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B07-EACA-498A-B237-2B996B50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9FC-0ECA-429D-A72D-573C355D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8DC-1C4A-40D1-B7F4-589B37D1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98D-87D7-49BC-8008-EF3B8398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A7E-A2F5-4D9A-B7F8-C67C8A26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06F-432C-450F-97C2-35612B00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EA8-7FD0-4FC5-B9AC-F3201B7C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77E-2AF2-4402-A44A-C9358EFA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53E-CDE6-48F6-B631-CAE00E1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627A3-54AD-475F-BB45-D463BE968407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41:17Z</dcterms:created>
  <dc:creator>Ing Ming Loh</dc:creator>
  <dc:description/>
  <dc:language>en-US</dc:language>
  <cp:lastModifiedBy>Ing Ming Loh</cp:lastModifiedBy>
  <dcterms:modified xsi:type="dcterms:W3CDTF">2018-10-15T02:41:45Z</dcterms:modified>
  <cp:revision>1</cp:revision>
  <dc:subject/>
  <dc:title>PowerPoint Presentation</dc:title>
</cp:coreProperties>
</file>