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C82BB-09E7-48AA-B504-B8C7724F6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507B0-38D8-4CE8-88E5-615113E7F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1D54C-EBC9-44E0-A06B-6540AB0CF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59260-1089-4840-8C57-07C2F553A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4AFCD-BC3A-4420-A7AB-421E40AAD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F8D27-BB62-4B62-9337-D8CF856E6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CEC1C-8D03-4471-98E4-2CDBA1A91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B9356-E70C-474D-9433-50370E792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1A533-D817-496D-BF05-6360ECB55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39A81-53A8-4074-A6A8-CB7C539D8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FBA6F-1195-4783-8D81-E614FABB6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4451B-383F-4B9F-91DC-BA5C5132F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B9272-0C67-4FB5-921E-19DDA3B23D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2" descr="c1"/>
          <p:cNvPicPr/>
          <p:nvPr/>
        </p:nvPicPr>
        <p:blipFill>
          <a:blip r:embed="rId1"/>
          <a:stretch/>
        </p:blipFill>
        <p:spPr>
          <a:xfrm>
            <a:off x="-19080" y="0"/>
            <a:ext cx="9163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c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c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c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5T08:24:23Z</dcterms:created>
  <dc:creator>DEll</dc:creator>
  <dc:description/>
  <dc:language>en-US</dc:language>
  <cp:lastModifiedBy>DEll</cp:lastModifiedBy>
  <dcterms:modified xsi:type="dcterms:W3CDTF">2011-05-26T07:45:42Z</dcterms:modified>
  <cp:revision>1</cp:revision>
  <dc:subject/>
  <dc:title>PowerPoint Presentation</dc:title>
</cp:coreProperties>
</file>