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468-B1E4-4980-9B73-6D45D0EC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7A5-5A38-4DE4-A7D9-3C8FD6E2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1E7-C768-42F7-816D-1D7983FF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753-3155-4ACD-8591-1F1878EF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E46-C86F-4B00-B3CC-874666C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654-11D3-469A-92E1-C9226940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D23-ECCB-4B3C-AA1A-7ADFD3B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6EA-FC73-4482-B4A4-D552A1A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143-7595-4199-B752-4777E9A9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ADF-6011-4BAA-A3F8-73B10BF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2E2-CC76-4D0A-AC6E-B5220239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0E1-14EA-428B-878C-68E72A1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A320F-AFCE-4915-AFD2-701C37951A7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1"/>
          <a:srcRect l="324" t="0" r="0" b="0"/>
          <a:stretch/>
        </p:blipFill>
        <p:spPr>
          <a:xfrm>
            <a:off x="-1440" y="0"/>
            <a:ext cx="91501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51:09Z</dcterms:created>
  <dc:creator>Ing Ming Loh</dc:creator>
  <dc:description/>
  <dc:language>en-US</dc:language>
  <cp:lastModifiedBy>tony</cp:lastModifiedBy>
  <dcterms:modified xsi:type="dcterms:W3CDTF">2019-06-25T08:44:0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