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5FD-F7F3-4DB0-8C67-B44EE1CB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078-E591-44FA-B1CF-48C57773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587-36FD-4B5E-9CED-387364FF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90D-CAF2-47BC-88D6-2B331EDD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B02-B19B-4082-B6DF-3E947EA8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6EB-B71A-4732-8AD0-66C2752A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8C6-F703-401A-983F-67F7B328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F96-B756-4F1D-AF65-D20E5E5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397-AA57-4C52-B3EA-B39FB750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178-F205-4513-92E8-479F31A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474-912E-4B51-A1F4-295E7DAD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FB3-57EA-4560-8ECA-ECE6AF0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9483B-F4A7-42F7-A464-E5E16F56F37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3:04:58Z</dcterms:created>
  <dc:creator>Ing Ming Loh</dc:creator>
  <dc:description/>
  <dc:language>en-US</dc:language>
  <cp:lastModifiedBy>Ing Ming Loh</cp:lastModifiedBy>
  <dcterms:modified xsi:type="dcterms:W3CDTF">2018-10-15T03:05:17Z</dcterms:modified>
  <cp:revision>1</cp:revision>
  <dc:subject/>
  <dc:title>PowerPoint Presentation</dc:title>
</cp:coreProperties>
</file>