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E917-0B21-4C96-B689-4F946994B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6337-3715-4F96-B724-DD1A025B3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4C0C-CD49-4A41-9581-DA6800D80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66D6-BDCF-4FE7-8BC1-A0EEB892E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F9FC-C81F-486C-98AB-0E52D861C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2CAA-2F28-45E8-8BA0-36497F5C4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0A35-8C51-47D1-9F29-5CF68024B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3444-173A-449C-8FA9-27D6AE4AD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C367-763E-4AB8-BF4E-9F8475B88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8EC9-719D-4163-9E62-ED7097EA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3B7F-CBB1-479E-B451-A7C9A0BA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BDED-BB12-4CEF-9F71-69FAFE2A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BDB7BF-F8A8-4179-9D0E-8A67315C60C1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2" descr=""/>
          <p:cNvPicPr/>
          <p:nvPr/>
        </p:nvPicPr>
        <p:blipFill>
          <a:blip r:embed="rId1"/>
          <a:srcRect l="324" t="0" r="0" b="0"/>
          <a:stretch/>
        </p:blipFill>
        <p:spPr>
          <a:xfrm>
            <a:off x="3240" y="3240"/>
            <a:ext cx="913428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5T03:09:17Z</dcterms:created>
  <dc:creator>Ing Ming Loh</dc:creator>
  <dc:description/>
  <dc:language>en-US</dc:language>
  <cp:lastModifiedBy>tony</cp:lastModifiedBy>
  <dcterms:modified xsi:type="dcterms:W3CDTF">2019-06-25T08:47:4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8641</vt:lpwstr>
  </property>
</Properties>
</file>