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E9C-F34C-45B0-874E-11E1481D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1B5-1755-44D8-B669-56E25C81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6D0-C458-4646-B5B6-C29E9C04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04B-47D3-4202-99ED-4036751A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642-DE8F-4A52-98C3-F10EA421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718-3CB1-4CBE-B477-393BA064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233-570B-4B51-9FD0-A5AB2E76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A2C-AE7B-42F1-AAA2-C5B04E06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913-0A0B-4477-AAFC-08C20060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759-8E7A-4729-8CF4-4F9C266F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232-2B81-4E08-9FD0-A77DF01C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CF1-FE14-4765-A37C-56FE0431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A49C-EC26-4835-8279-A248CA737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j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j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j4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j5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8:25:50Z</dcterms:created>
  <dc:creator>DEll</dc:creator>
  <dc:description/>
  <dc:language>en-US</dc:language>
  <cp:lastModifiedBy>DEll</cp:lastModifiedBy>
  <dcterms:modified xsi:type="dcterms:W3CDTF">2011-05-26T07:45:31Z</dcterms:modified>
  <cp:revision>1</cp:revision>
  <dc:subject/>
  <dc:title>PowerPoint Presentation</dc:title>
</cp:coreProperties>
</file>