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49C-5C1B-484F-8082-AB1A22B5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04E-57B7-43B4-ADD3-4EBB7ADE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710-24FF-482B-8B15-89606DEC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97C-A98C-4236-A620-6AECCD3D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665-DFDA-4360-82AD-CE2EEAD1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EE9-C329-4AC0-95D3-32DC8366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EC4-FEEB-4E20-B351-C09B8E1E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FFD-6A60-4DFD-8D5A-7760AC7D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516-083B-4BCB-8AC9-6C44559B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DB0-E68E-4BC3-A4A0-E397E8BE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A48-FF8C-43BF-A35F-A114E48C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46A-ADF2-4746-9B05-E876A356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27A5-E749-446D-A7EE-A5B5AA96A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9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12"/>
          <p:cNvPicPr/>
          <p:nvPr/>
        </p:nvPicPr>
        <p:blipFill>
          <a:blip r:embed="rId1"/>
          <a:stretch/>
        </p:blipFill>
        <p:spPr>
          <a:xfrm>
            <a:off x="19080" y="3240"/>
            <a:ext cx="91249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8:27:06Z</dcterms:created>
  <dc:creator>DEll</dc:creator>
  <dc:description/>
  <dc:language>en-US</dc:language>
  <cp:lastModifiedBy>DEll</cp:lastModifiedBy>
  <dcterms:modified xsi:type="dcterms:W3CDTF">2011-05-26T07:45:15Z</dcterms:modified>
  <cp:revision>1</cp:revision>
  <dc:subject/>
  <dc:title>PowerPoint Presentation</dc:title>
</cp:coreProperties>
</file>