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47EF-2ACA-4542-92D4-BEFE94AA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0810-5833-4C14-84A0-404DF2EF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582D-C29B-4788-99EE-DE26C792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BD86-EF32-4E44-931D-E6389CEF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484C-C754-4720-95FF-E6922A04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61C-C75D-4D28-B672-A533CB41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99F6-39B2-4545-98FC-9A230796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F448-4C06-44D5-AE6B-B28B1465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23FD-0224-40C1-B1BD-4DD2A782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A685-0C7A-4953-9D2C-56FBC040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1079-49AC-4142-8BA9-F599D164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C282-5EF2-41D9-9B21-766FA99E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B5ECF-EB4A-494D-A41D-DE9715B4EA88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3:20:02Z</dcterms:created>
  <dc:creator>Ing Ming Loh</dc:creator>
  <dc:description/>
  <dc:language>en-US</dc:language>
  <cp:lastModifiedBy>Ing Ming Loh</cp:lastModifiedBy>
  <dcterms:modified xsi:type="dcterms:W3CDTF">2018-10-15T03:20:26Z</dcterms:modified>
  <cp:revision>1</cp:revision>
  <dc:subject/>
  <dc:title>PowerPoint Presentation</dc:title>
</cp:coreProperties>
</file>