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22A-4048-47F0-8F26-FC190B63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EFC-2D0B-47BF-915E-CFED2204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2C1-16D3-45AC-B14F-2E490463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AF8-6D80-47DD-8442-58A4CD73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62B-C237-4C0B-8269-F40556B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8BC-3B7A-49FA-AC8D-DF32B29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103-CEA4-4C1F-B69D-0964F8DA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277-A064-47C0-8E99-E05F053F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92A-C49C-447D-BFF4-6766491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E32-B8D7-40E9-9C63-7ECC603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3AE-87A6-4F80-92B4-5A6357FC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A53-A077-4EE5-8A35-06FA29D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1C8-0BDB-467B-A817-4871189A4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443a copy.jpg"/>
          <p:cNvPicPr/>
          <p:nvPr/>
        </p:nvPicPr>
        <p:blipFill>
          <a:blip r:embed="rId1"/>
          <a:stretch/>
        </p:blipFill>
        <p:spPr>
          <a:xfrm>
            <a:off x="1219320" y="38088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443b copy.jpg"/>
          <p:cNvPicPr/>
          <p:nvPr/>
        </p:nvPicPr>
        <p:blipFill>
          <a:blip r:embed="rId1"/>
          <a:stretch/>
        </p:blipFill>
        <p:spPr>
          <a:xfrm>
            <a:off x="609480" y="1652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443c copy.jpg"/>
          <p:cNvPicPr/>
          <p:nvPr/>
        </p:nvPicPr>
        <p:blipFill>
          <a:blip r:embed="rId1"/>
          <a:stretch/>
        </p:blipFill>
        <p:spPr>
          <a:xfrm>
            <a:off x="762120" y="45720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443d copy.jpg"/>
          <p:cNvPicPr/>
          <p:nvPr/>
        </p:nvPicPr>
        <p:blipFill>
          <a:blip r:embed="rId1"/>
          <a:stretch/>
        </p:blipFill>
        <p:spPr>
          <a:xfrm>
            <a:off x="439560" y="453960"/>
            <a:ext cx="75438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3:37:14Z</dcterms:created>
  <dc:creator>celester</dc:creator>
  <dc:description/>
  <dc:language>en-US</dc:language>
  <cp:lastModifiedBy>Ing Ming Loh</cp:lastModifiedBy>
  <dcterms:modified xsi:type="dcterms:W3CDTF">2018-10-15T03:22:16Z</dcterms:modified>
  <cp:revision>1</cp:revision>
  <dc:subject/>
  <dc:title>PowerPoint Presentation</dc:title>
</cp:coreProperties>
</file>