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EF3-F1AD-41E9-B5A4-B898EF55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E03-0DE8-4D84-A915-572EAF49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750-2E37-4E52-8EE7-D8BEF4F4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91A-296E-4298-96E9-FD3AF02D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578-F8D1-4EA4-AF8C-5AFB3624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39D-DB26-48F2-A68A-4B82B3C4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C7E-6E80-4373-A7D2-25A1BCEB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3E6-632A-4191-93D6-3E4C24CB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EA6-60F8-4F27-A7B3-CA8663B9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F41-DE55-407E-A8F1-B06FA5D7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B15-784D-4E30-B3FD-6BE02273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926-E346-4BF7-8ED3-A642B232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6DF78-D14B-40DF-B6B4-33251C6813EF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3:28:30Z</dcterms:created>
  <dc:creator>Ing Ming Loh</dc:creator>
  <dc:description/>
  <dc:language>en-US</dc:language>
  <cp:lastModifiedBy>Ing Ming Loh</cp:lastModifiedBy>
  <dcterms:modified xsi:type="dcterms:W3CDTF">2018-10-15T03:28:51Z</dcterms:modified>
  <cp:revision>1</cp:revision>
  <dc:subject/>
  <dc:title>PowerPoint Presentation</dc:title>
</cp:coreProperties>
</file>