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DF0-EF0B-4F79-95B9-CC883146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40A-64AF-42BF-BA16-5761E9A8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DBA-D285-4CE7-B85C-83E52324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DF5-E7FF-45C3-9361-8A889768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A379-1AD5-4D09-A5C0-DAA4317C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D62-6B91-4C10-A6D3-7071601D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C43-A5B8-4473-BF95-40950B2F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4A4-3391-4D11-90D2-AF604AC0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4398-6CC1-4CCA-B3DB-8A2771C0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320-8DE9-44FD-8A50-F9D2DCBE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728-6511-4116-8054-2E7A4C26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B745-5606-4675-B576-365D2B0D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50FA1-9BA0-41CE-8961-A3B328F5BB9C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3:35:23Z</dcterms:created>
  <dc:creator>Ing Ming Loh</dc:creator>
  <dc:description/>
  <dc:language>en-US</dc:language>
  <cp:lastModifiedBy>Ing Ming Loh</cp:lastModifiedBy>
  <dcterms:modified xsi:type="dcterms:W3CDTF">2018-10-15T03:36:50Z</dcterms:modified>
  <cp:revision>1</cp:revision>
  <dc:subject/>
  <dc:title>PowerPoint Presentation</dc:title>
</cp:coreProperties>
</file>