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6494-050A-4329-B451-457919CEB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AC0F-4D05-46A7-A663-22826193B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CCE5-A17F-460B-93FD-69A28EA1D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83B5-916A-4D04-9348-CB8CA9DD3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9657-C760-439F-9229-2F58CE217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CAFF-37DF-42F9-982D-CD2792426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CCF6-7066-491D-83AA-03C29FAE0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16CC-F14F-4D3B-A3D7-3A040EA3D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C454-F43F-45FF-8C51-2AE389061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CBFE-CC99-45CA-912B-26D674EF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C1DA-71DA-48D9-9ADC-AB09C10A6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C9C2-88F8-489B-8AA8-8EB84F0A9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71E704-7527-4CEF-BE08-F7FAD3FC3072}" type="slidenum">
              <a:rPr b="0" lang="en-MY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5T03:42:30Z</dcterms:created>
  <dc:creator>Ing Ming Loh</dc:creator>
  <dc:description/>
  <dc:language>en-US</dc:language>
  <cp:lastModifiedBy>Ing Ming Loh</cp:lastModifiedBy>
  <dcterms:modified xsi:type="dcterms:W3CDTF">2018-10-15T03:42:56Z</dcterms:modified>
  <cp:revision>1</cp:revision>
  <dc:subject/>
  <dc:title>PowerPoint Presentation</dc:title>
</cp:coreProperties>
</file>