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69A-DBC5-44BD-84FF-3826683B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CCD-6708-4C48-9A09-78FA02A6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318-C08C-4627-8E34-6BF5AFE3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D36-F28B-4E26-A3D7-41ED7767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27B-4EE9-401D-8A09-DFAB4917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E3B-7BE2-4678-95CF-DA530BB6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CC4-92FB-4A52-A1B3-58A8C83A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781-1411-4DAA-8920-617126FD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6D4-4871-46BF-9C7D-62741E64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F1A-4D3D-4050-994B-1724630E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6E6-5EAD-4D3D-A08B-5D08CB2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F2E-96D0-4D60-9DBB-EB8B9E06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FB773-DF1B-4EF4-8636-FBBE7B7844E9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3:44:31Z</dcterms:created>
  <dc:creator>Ing Ming Loh</dc:creator>
  <dc:description/>
  <dc:language>en-US</dc:language>
  <cp:lastModifiedBy>Ing Ming Loh</cp:lastModifiedBy>
  <dcterms:modified xsi:type="dcterms:W3CDTF">2018-10-15T03:45:01Z</dcterms:modified>
  <cp:revision>1</cp:revision>
  <dc:subject/>
  <dc:title>PowerPoint Presentation</dc:title>
</cp:coreProperties>
</file>