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BF6-B5CF-4E95-A964-16FCDF45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DFB-1C7A-444B-860C-D1398439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F07-2B66-4D36-A9AF-C0AE36F7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F5B-1EDE-4327-9096-E8508A41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A94-9179-4989-87AF-F1E05021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2E7-E0FC-48E6-890B-8A8840B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7AC-FEC1-4A8B-8290-97EB7F65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0B0-8186-44AD-B131-C1D83ECF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4B9-2134-42D5-B55B-C59054AF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59D-972D-4E96-BF43-AD71228B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90F-74C9-4265-AC2F-50DD473E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E3A-EF62-4545-91E6-A786A36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F9E-D3B2-4ABC-B9F2-B848847C2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b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19"/>
          <p:cNvPicPr/>
          <p:nvPr/>
        </p:nvPicPr>
        <p:blipFill>
          <a:blip r:embed="rId1"/>
          <a:stretch/>
        </p:blipFill>
        <p:spPr>
          <a:xfrm>
            <a:off x="-3240" y="-9360"/>
            <a:ext cx="91472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b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b21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29:53Z</dcterms:created>
  <dc:creator>DEll</dc:creator>
  <dc:description/>
  <dc:language>en-US</dc:language>
  <cp:lastModifiedBy>DEll</cp:lastModifiedBy>
  <dcterms:modified xsi:type="dcterms:W3CDTF">2011-05-26T07:44:59Z</dcterms:modified>
  <cp:revision>1</cp:revision>
  <dc:subject/>
  <dc:title>PowerPoint Presentation</dc:title>
</cp:coreProperties>
</file>