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4E16B-01FC-41C3-A8B7-FA0DA4E00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F0F2C-58C5-4E76-AD89-553AFEE36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44C78-9CA1-4EBE-9CD6-3F384F185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5FFB2-C467-4364-81DE-6D7CB6C53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3D829-2585-4F40-A468-9C3B1B940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68C83-BE30-4AB5-ABC6-FC499A3F2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CCDD6-70EB-4B98-B1F1-229E44151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E410F-3958-4350-99ED-9564097A4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BC98B-ACE6-43EA-AEF8-79DE9785B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0DACC-79F3-4BBA-98A5-0228FD1D8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83537-22F9-4B46-A9D8-B4129AD0B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50C1E-88E5-4A1B-9197-D2F6D1F55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MY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MY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MY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04AD1D0-2C86-4072-A193-922990DA269A}" type="slidenum">
              <a:rPr b="0" lang="en-MY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0-15T05:30:03Z</dcterms:created>
  <dc:creator>Ing Ming Loh</dc:creator>
  <dc:description/>
  <dc:language>en-US</dc:language>
  <cp:lastModifiedBy>Ing Ming Loh</cp:lastModifiedBy>
  <dcterms:modified xsi:type="dcterms:W3CDTF">2018-10-15T05:31:01Z</dcterms:modified>
  <cp:revision>1</cp:revision>
  <dc:subject/>
  <dc:title>PowerPoint Presentation</dc:title>
</cp:coreProperties>
</file>