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ECE3-AF57-462A-AFF9-193869CB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E1AD-E49A-4304-90AB-D2D8310B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CA87-4313-4C37-A454-5BA38C70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9D1-92D6-4C08-BC25-73F2F87B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3CC1-8657-4185-852F-3E0DC555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41D5-27FB-478D-AA6C-30E3A926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2FE7-0849-41FF-A803-46A2941C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1CC3-6080-4A61-9AA9-CB5FDC30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EA0-5D97-42B0-99D9-8EFD4EB8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7385-FD83-4560-AB69-E43ACFF4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9619-B81F-409B-998D-E21A2A34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3905-38A9-4F95-9B2F-6EC404F5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9E3B-52A2-494F-8926-2402A163F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ChaiYiing\Desktop\JPG pu song\pu song 453a copy.jpg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ChaiYiing\Desktop\JPG pu song\pu song 453b copy.jpg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4" descr=""/>
          <p:cNvPicPr/>
          <p:nvPr/>
        </p:nvPicPr>
        <p:blipFill>
          <a:blip r:embed="rId1"/>
          <a:stretch/>
        </p:blipFill>
        <p:spPr>
          <a:xfrm>
            <a:off x="663480" y="665280"/>
            <a:ext cx="781704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3:42:18Z</dcterms:created>
  <dc:creator>celester</dc:creator>
  <dc:description/>
  <dc:language>en-US</dc:language>
  <cp:lastModifiedBy>tony</cp:lastModifiedBy>
  <dcterms:modified xsi:type="dcterms:W3CDTF">2019-06-25T08:54:5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